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png" ContentType="image/png"/>
  <Override PartName="/ppt/media/image21.png" ContentType="image/png"/>
  <Override PartName="/ppt/media/image19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jpeg" ContentType="image/jpeg"/>
  <Override PartName="/ppt/media/image29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30.jpeg" ContentType="image/jpeg"/>
  <Override PartName="/ppt/media/image3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8518-201A-4649-81D3-4A16E9EB3B1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3033-5F02-4E58-8A2D-787A4859C9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8AA-D8A1-42A6-A5E9-B45460141DA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05D3-6D3B-40DE-8D2C-6E450B06709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A43A-86EE-4E4D-BC3B-743AB4FF134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948F-EF92-4125-AE6B-1106A6CEE06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2840-22D6-4EBC-8D27-9527D7B2A51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8E9C-1C05-49B9-85C3-663FBC92FD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E08-6777-4EF3-899B-B7BAFA342D6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B82E-B80B-4E48-AD96-2540AE10FDE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4F21-C2CC-461A-9862-F87D1170987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B110-D063-43B1-A8C5-F35D2DD51D4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5373-60CF-49C9-A36C-8EAD95B049F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20FD-2824-41AD-AC65-D02AF020E94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205-E8C1-4A85-81EF-5849826D3EA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DA19B-4C3E-4494-B0BF-C158FC779E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77D2-51C2-4BC6-8F03-90C9C11CA7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DE63-19BC-4E66-AAE4-9A2AAC4E1A8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53DE-A98D-4C4E-B312-349A8154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5D7-994D-4D49-B0CF-90A46824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F51C-5067-48DF-8D64-5A6860E8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3815-1948-41A0-96AF-F8DD8D14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26D4-A2AA-4D59-BB8C-0905A62F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170-4EA9-48AC-9D1F-AF622CE9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DDD-0988-4B33-B76B-A9A71BB8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7DA-211C-4C7E-8575-378326F9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999-119C-476D-BF75-8E72F717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1FC9-0756-4CB1-A97D-B5695211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D114-6F3F-42F7-A6C1-44C0BBBE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0324-3AC1-4008-9AC8-F96B7315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AF4D-406F-4F70-BCD9-37AC20ABD81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4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4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4.xml"/><Relationship Id="rId10" Type="http://schemas.openxmlformats.org/officeDocument/2006/relationships/image" Target="../media/image3.png"/><Relationship Id="rId11" Type="http://schemas.openxmlformats.org/officeDocument/2006/relationships/slide" Target="slide5.xml"/><Relationship Id="rId12" Type="http://schemas.openxmlformats.org/officeDocument/2006/relationships/image" Target="../media/image3.png"/><Relationship Id="rId13" Type="http://schemas.openxmlformats.org/officeDocument/2006/relationships/slide" Target="slide6.xml"/><Relationship Id="rId14" Type="http://schemas.openxmlformats.org/officeDocument/2006/relationships/image" Target="../media/image3.png"/><Relationship Id="rId15" Type="http://schemas.openxmlformats.org/officeDocument/2006/relationships/slide" Target="slide7.xml"/><Relationship Id="rId16" Type="http://schemas.openxmlformats.org/officeDocument/2006/relationships/image" Target="../media/image3.png"/><Relationship Id="rId17" Type="http://schemas.openxmlformats.org/officeDocument/2006/relationships/slide" Target="slide8.xml"/><Relationship Id="rId18" Type="http://schemas.openxmlformats.org/officeDocument/2006/relationships/slide" Target="slide8.xml"/><Relationship Id="rId19" Type="http://schemas.openxmlformats.org/officeDocument/2006/relationships/image" Target="../media/image3.png"/><Relationship Id="rId20" Type="http://schemas.openxmlformats.org/officeDocument/2006/relationships/slide" Target="slide9.xml"/><Relationship Id="rId21" Type="http://schemas.openxmlformats.org/officeDocument/2006/relationships/image" Target="../media/image3.png"/><Relationship Id="rId22" Type="http://schemas.openxmlformats.org/officeDocument/2006/relationships/slide" Target="slide10.xml"/><Relationship Id="rId23" Type="http://schemas.openxmlformats.org/officeDocument/2006/relationships/slide" Target="slide10.xml"/><Relationship Id="rId24" Type="http://schemas.openxmlformats.org/officeDocument/2006/relationships/slide" Target="slide10.xml"/><Relationship Id="rId25" Type="http://schemas.openxmlformats.org/officeDocument/2006/relationships/image" Target="../media/image3.png"/><Relationship Id="rId26" Type="http://schemas.openxmlformats.org/officeDocument/2006/relationships/slide" Target="slide11.xml"/><Relationship Id="rId27" Type="http://schemas.openxmlformats.org/officeDocument/2006/relationships/slide" Target="slide11.xml"/><Relationship Id="rId28" Type="http://schemas.openxmlformats.org/officeDocument/2006/relationships/slide" Target="slide11.xml"/><Relationship Id="rId29" Type="http://schemas.openxmlformats.org/officeDocument/2006/relationships/image" Target="../media/image3.png"/><Relationship Id="rId30" Type="http://schemas.openxmlformats.org/officeDocument/2006/relationships/slide" Target="slide12.xml"/><Relationship Id="rId31" Type="http://schemas.openxmlformats.org/officeDocument/2006/relationships/image" Target="../media/image3.png"/><Relationship Id="rId32" Type="http://schemas.openxmlformats.org/officeDocument/2006/relationships/slide" Target="slide13.xml"/><Relationship Id="rId33" Type="http://schemas.openxmlformats.org/officeDocument/2006/relationships/image" Target="../media/image3.png"/><Relationship Id="rId34" Type="http://schemas.openxmlformats.org/officeDocument/2006/relationships/slide" Target="slide14.xml"/><Relationship Id="rId35" Type="http://schemas.openxmlformats.org/officeDocument/2006/relationships/image" Target="../media/image3.png"/><Relationship Id="rId36" Type="http://schemas.openxmlformats.org/officeDocument/2006/relationships/slide" Target="slide15.xml"/><Relationship Id="rId37" Type="http://schemas.openxmlformats.org/officeDocument/2006/relationships/image" Target="../media/image3.png"/><Relationship Id="rId38" Type="http://schemas.openxmlformats.org/officeDocument/2006/relationships/slide" Target="slide16.xml"/><Relationship Id="rId39" Type="http://schemas.openxmlformats.org/officeDocument/2006/relationships/slide" Target="slide16.xml"/><Relationship Id="rId40" Type="http://schemas.openxmlformats.org/officeDocument/2006/relationships/slide" Target="slide16.xml"/><Relationship Id="rId41" Type="http://schemas.openxmlformats.org/officeDocument/2006/relationships/image" Target="../media/image3.png"/><Relationship Id="rId42" Type="http://schemas.openxmlformats.org/officeDocument/2006/relationships/slide" Target="slide17.xml"/><Relationship Id="rId43" Type="http://schemas.openxmlformats.org/officeDocument/2006/relationships/image" Target="../media/image3.png"/><Relationship Id="rId44" Type="http://schemas.openxmlformats.org/officeDocument/2006/relationships/slide" Target="slide18.xml"/><Relationship Id="rId4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bytemag.ru/" TargetMode="External"/><Relationship Id="rId5" Type="http://schemas.openxmlformats.org/officeDocument/2006/relationships/hyperlink" Target="http://www.bytemag.ru/" TargetMode="External"/><Relationship Id="rId6" Type="http://schemas.openxmlformats.org/officeDocument/2006/relationships/hyperlink" Target="http://www.bytemag.ru/" TargetMode="External"/><Relationship Id="rId7" Type="http://schemas.openxmlformats.org/officeDocument/2006/relationships/hyperlink" Target="http://www.bytemag.ru/" TargetMode="External"/><Relationship Id="rId8" Type="http://schemas.openxmlformats.org/officeDocument/2006/relationships/hyperlink" Target="http://www.izcity.com/" TargetMode="External"/><Relationship Id="rId9" Type="http://schemas.openxmlformats.org/officeDocument/2006/relationships/hyperlink" Target="http://www.izcity.com/" TargetMode="External"/><Relationship Id="rId10" Type="http://schemas.openxmlformats.org/officeDocument/2006/relationships/hyperlink" Target="http://www.izcity.com/" TargetMode="External"/><Relationship Id="rId11" Type="http://schemas.openxmlformats.org/officeDocument/2006/relationships/hyperlink" Target="http://www.izcity.com/" TargetMode="External"/><Relationship Id="rId12" Type="http://schemas.openxmlformats.org/officeDocument/2006/relationships/slide" Target="slide2.xml"/><Relationship Id="rId13" Type="http://schemas.openxmlformats.org/officeDocument/2006/relationships/slideLayout" Target="../slideLayouts/slideLayout7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ebmaster.rovno.ua/" TargetMode="External"/><Relationship Id="rId3" Type="http://schemas.openxmlformats.org/officeDocument/2006/relationships/image" Target="../media/image14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gency FB"/>
              </a:rPr>
              <a:t>Анализ программного обеспечения для разработчиков </a:t>
            </a:r>
            <a:r>
              <a:rPr b="0" i="1" lang="en-US" sz="4000" spc="-1" strike="noStrike">
                <a:solidFill>
                  <a:srgbClr val="3366ff"/>
                </a:solidFill>
                <a:latin typeface="Agency FB"/>
              </a:rPr>
              <a:t>web-</a:t>
            </a:r>
            <a:r>
              <a:rPr b="0" i="1" lang="ru-RU" sz="4000" spc="-1" strike="noStrike">
                <a:solidFill>
                  <a:srgbClr val="3366ff"/>
                </a:solidFill>
                <a:latin typeface="Agency FB"/>
              </a:rPr>
              <a:t>страниц и </a:t>
            </a:r>
            <a:r>
              <a:rPr b="0" i="1" lang="en-US" sz="4000" spc="-1" strike="noStrike">
                <a:solidFill>
                  <a:srgbClr val="3366ff"/>
                </a:solidFill>
                <a:latin typeface="Agency FB"/>
              </a:rPr>
              <a:t>web-</a:t>
            </a:r>
            <a:r>
              <a:rPr b="0" i="1" lang="ru-RU" sz="4000" spc="-1" strike="noStrike">
                <a:solidFill>
                  <a:srgbClr val="3366ff"/>
                </a:solidFill>
                <a:latin typeface="Agency FB"/>
              </a:rPr>
              <a:t>сай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374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Необходим достаточно высокий уровень знаний и опыта </a:t>
            </a:r>
            <a:r>
              <a:rPr b="1" i="1" lang="en-US" sz="2000" spc="-1" strike="noStrike">
                <a:solidFill>
                  <a:srgbClr val="cc0000"/>
                </a:solidFill>
                <a:latin typeface="Arial"/>
              </a:rPr>
              <a:t>web-</a:t>
            </a: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маст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Присутствует достаточно большой набор «лишних»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Лицензионная версия            программы               достаточ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00"/>
                </a:solidFill>
                <a:latin typeface="Arial"/>
              </a:rPr>
              <a:t>дорогостоящ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стоинст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уществует механизм, позволяющий расширить функциональность за счет добавления плаг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строенные дизайн-макеты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web-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тра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Встроенный механизм контроля версии страни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редства автоподстановки параметров (автозаполн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роверка «орфогра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1979640" y="333360"/>
            <a:ext cx="5472000" cy="764280"/>
          </a:xfrm>
          <a:prstGeom prst="rect">
            <a:avLst/>
          </a:prstGeom>
          <a:noFill/>
          <a:ln w="0">
            <a:noFill/>
          </a:ln>
          <a:effectLst>
            <a:outerShdw dist="148236" dir="7259257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Dream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  <a:ea typeface="Arial"/>
              </a:rPr>
              <a:t>wea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95008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Ace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3035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5f5f5f"/>
                </a:solidFill>
                <a:uFillTx/>
                <a:latin typeface="Arial"/>
              </a:rPr>
              <a:t>Недостат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визуального реда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ществует режим просмотра, но этот компонент использует ядр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Explorer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 вывод информации не соответствует многим используемым стандарт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80000" y="1341000"/>
            <a:ext cx="310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Достоин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троенный анализатор ошибок выдает информацию о совместимости кода с конкретным браузе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аточно легкий для начинающего пользова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требователен к системным ресур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держит функцию проверки «орфограф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6165720"/>
            <a:ext cx="360360" cy="358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87" h="21600">
                <a:moveTo>
                  <a:pt x="5316" y="3985"/>
                </a:moveTo>
                <a:lnTo>
                  <a:pt x="12314" y="3985"/>
                </a:lnTo>
                <a:lnTo>
                  <a:pt x="16370" y="7484"/>
                </a:lnTo>
                <a:lnTo>
                  <a:pt x="16370" y="17615"/>
                </a:lnTo>
                <a:lnTo>
                  <a:pt x="5316" y="17615"/>
                </a:lnTo>
                <a:close/>
              </a:path>
              <a:path fill="darken" w="21687" h="21600">
                <a:moveTo>
                  <a:pt x="12314" y="3985"/>
                </a:moveTo>
                <a:lnTo>
                  <a:pt x="16370" y="7484"/>
                </a:lnTo>
                <a:lnTo>
                  <a:pt x="12314" y="7484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377b3"/>
                </a:solidFill>
                <a:latin typeface="Arial"/>
              </a:rPr>
              <a:t>Блокнот </a:t>
            </a:r>
            <a:r>
              <a:rPr b="0" lang="en-US" sz="4400" spc="-1" strike="noStrike">
                <a:solidFill>
                  <a:srgbClr val="c377b3"/>
                </a:solidFill>
                <a:latin typeface="Arial"/>
              </a:rPr>
              <a:t>(Notepad)</a:t>
            </a:r>
            <a:r>
              <a:rPr b="0" lang="en-US" sz="4400" spc="-1" strike="noStrike">
                <a:solidFill>
                  <a:srgbClr val="c377b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Блокнот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 — это несложный текстовый редактор, используемый для создания простых документов. Наиболее часто программа «</a:t>
            </a: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Блокнот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» используется для просмотра и редактирования текстовых (TXT) файлов, но многие пользователи применяют программу «Блокнот» в качестве простого инструмента для создания 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web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-страниц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Программа «</a:t>
            </a:r>
            <a:r>
              <a:rPr b="1" i="1" lang="ru-RU" sz="1600" spc="-1" strike="noStrike">
                <a:solidFill>
                  <a:srgbClr val="cc6600"/>
                </a:solidFill>
                <a:latin typeface="Arial"/>
              </a:rPr>
              <a:t>Блокнот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» поддерживает только основное форматирование, поэтому случайное сохранение специального форматирования в документах, в которых должен остаться чистый текст, исключено. Это особенно полезно при создании HTML-документов для 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web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-страниц, так как особые знаки или другое форматирование могут не отображаться на опубликованных 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web</a:t>
            </a:r>
            <a:r>
              <a:rPr b="0" lang="ru-RU" sz="1600" spc="-1" strike="noStrike">
                <a:solidFill>
                  <a:srgbClr val="cc6600"/>
                </a:solidFill>
                <a:latin typeface="Arial"/>
              </a:rPr>
              <a:t>-страницах и даже могут приводить к возникновению ошиб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4" descr=""/>
          <p:cNvPicPr/>
          <p:nvPr/>
        </p:nvPicPr>
        <p:blipFill>
          <a:blip r:embed="rId2"/>
          <a:stretch/>
        </p:blipFill>
        <p:spPr>
          <a:xfrm>
            <a:off x="4714920" y="1428840"/>
            <a:ext cx="4219560" cy="43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928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5890" h="21600">
                <a:moveTo>
                  <a:pt x="7418" y="3985"/>
                </a:moveTo>
                <a:lnTo>
                  <a:pt x="14416" y="3985"/>
                </a:lnTo>
                <a:lnTo>
                  <a:pt x="18472" y="7484"/>
                </a:lnTo>
                <a:lnTo>
                  <a:pt x="18472" y="17615"/>
                </a:lnTo>
                <a:lnTo>
                  <a:pt x="7418" y="17615"/>
                </a:lnTo>
                <a:close/>
              </a:path>
              <a:path fill="darken" w="25890" h="21600">
                <a:moveTo>
                  <a:pt x="14416" y="3985"/>
                </a:moveTo>
                <a:lnTo>
                  <a:pt x="18472" y="7484"/>
                </a:lnTo>
                <a:lnTo>
                  <a:pt x="14416" y="748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1989000"/>
            <a:ext cx="7499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Это набор средств разработки для создания интернет-приложений на платформе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SP.NET, web-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служб на базе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XML, 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настольных и мобильных     приложений. Общая интегрированная                                              среда разработки для                                                                           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Visual Basic,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Visual C++,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                                                                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 Visual C#, Visual J#,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                                                                      позволяет         создавать                                                                      программы с фрагментами                                                                кода на различных языках,                                                  максимально использующие                                                       возможности каждого языка. Функциональные возможности этих языков прекрасно дополняют платформу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.NET Framework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, объединяющую ключевые технологии для быстрой разработки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Интернет-приложений и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web-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служб на базе технологии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ASP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cc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3366cc"/>
                </a:solidFill>
                <a:latin typeface="Arial"/>
              </a:rPr>
              <a:t>страницы, содержащие гипертекстовую разметку + набор функций для обеспечения взаимодействия клиент-сервер)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и языка </a:t>
            </a:r>
            <a:r>
              <a:rPr b="1" lang="en-US" sz="1800" spc="-1" strike="noStrike">
                <a:solidFill>
                  <a:srgbClr val="3366cc"/>
                </a:solidFill>
                <a:latin typeface="Arial"/>
              </a:rPr>
              <a:t>XML</a:t>
            </a:r>
            <a:r>
              <a:rPr b="1" lang="ru-RU" sz="1800" spc="-1" strike="noStrike">
                <a:solidFill>
                  <a:srgbClr val="3366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7488360" cy="13687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6165720"/>
            <a:ext cx="360360" cy="466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66920"/>
              <a:gd name="textAreaBottom" fmla="*/ 443880 h 466920"/>
            </a:gdLst>
            <a:ahLst/>
            <a:rect l="textAreaLeft" t="textAreaTop" r="textAreaRight" b="textAreaBottom"/>
            <a:pathLst>
              <a:path w="21600" h="27981">
                <a:moveTo>
                  <a:pt x="0" y="0"/>
                </a:moveTo>
                <a:lnTo>
                  <a:pt x="21600" y="0"/>
                </a:lnTo>
                <a:lnTo>
                  <a:pt x="21600" y="27981"/>
                </a:lnTo>
                <a:lnTo>
                  <a:pt x="0" y="27981"/>
                </a:lnTo>
                <a:close/>
              </a:path>
              <a:path fill="lightenLess" w="21600" h="279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981">
                <a:moveTo>
                  <a:pt x="21600" y="0"/>
                </a:moveTo>
                <a:lnTo>
                  <a:pt x="21600" y="27981"/>
                </a:lnTo>
                <a:lnTo>
                  <a:pt x="20200" y="26581"/>
                </a:lnTo>
                <a:lnTo>
                  <a:pt x="20200" y="1400"/>
                </a:lnTo>
                <a:close/>
              </a:path>
              <a:path fill="darkenLess" w="21600" h="27981">
                <a:moveTo>
                  <a:pt x="21600" y="27981"/>
                </a:moveTo>
                <a:lnTo>
                  <a:pt x="0" y="27981"/>
                </a:lnTo>
                <a:lnTo>
                  <a:pt x="1400" y="26581"/>
                </a:lnTo>
                <a:lnTo>
                  <a:pt x="20200" y="26581"/>
                </a:lnTo>
                <a:close/>
              </a:path>
              <a:path fill="lighten" w="21600" h="27981">
                <a:moveTo>
                  <a:pt x="0" y="279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6581"/>
                </a:lnTo>
                <a:close/>
              </a:path>
              <a:path fill="darkenLess" w="21600" h="27981">
                <a:moveTo>
                  <a:pt x="5273" y="7175"/>
                </a:moveTo>
                <a:lnTo>
                  <a:pt x="12271" y="7175"/>
                </a:lnTo>
                <a:lnTo>
                  <a:pt x="16327" y="10674"/>
                </a:lnTo>
                <a:lnTo>
                  <a:pt x="16327" y="20805"/>
                </a:lnTo>
                <a:lnTo>
                  <a:pt x="5273" y="20805"/>
                </a:lnTo>
                <a:close/>
              </a:path>
              <a:path fill="darken" w="21600" h="27981">
                <a:moveTo>
                  <a:pt x="12271" y="7175"/>
                </a:moveTo>
                <a:lnTo>
                  <a:pt x="16327" y="10674"/>
                </a:lnTo>
                <a:lnTo>
                  <a:pt x="12271" y="1067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Caché Studio – это интегрированная 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БД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ch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среда разработки (IDE), при помощи которой можно создавать объекты и CSP-страницы 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Cache Server pages – web-</a:t>
            </a: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приложение, содержащее помимо языка гипертекстовой разметки различный набор методов, служащих интерфейсом между клиентом и севером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писать и отлаживать методы и программы на объектно-ориентированном языке программирования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aché Object Script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а также представлять данные в виде классов Java, XML-документов и проч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* Cach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é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треляционная СУБД, основанная на Транзакционной Многомерной Модели Данных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TMDM)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, обеспечивающей одновременную работу множества клиентов без потери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27280" y="69228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99"/>
                </a:solidFill>
                <a:latin typeface="Comic Sans MS"/>
                <a:ea typeface="Arial"/>
              </a:rPr>
              <a:t>CACH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3276720" y="549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Arial"/>
              </a:rPr>
              <a:t>Inter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0"/>
          <p:cNvSpPr/>
          <p:nvPr/>
        </p:nvSpPr>
        <p:spPr>
          <a:xfrm rot="8500800">
            <a:off x="5076000" y="620280"/>
            <a:ext cx="360360" cy="14436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6237360"/>
            <a:ext cx="360360" cy="395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  <a:path fill="darkenLess" w="21600" h="23691">
                <a:moveTo>
                  <a:pt x="5273" y="5031"/>
                </a:moveTo>
                <a:lnTo>
                  <a:pt x="12271" y="5031"/>
                </a:lnTo>
                <a:lnTo>
                  <a:pt x="16327" y="8529"/>
                </a:lnTo>
                <a:lnTo>
                  <a:pt x="16327" y="18661"/>
                </a:lnTo>
                <a:lnTo>
                  <a:pt x="5273" y="18661"/>
                </a:lnTo>
                <a:close/>
              </a:path>
              <a:path fill="darken" w="21600" h="23691">
                <a:moveTo>
                  <a:pt x="12271" y="5031"/>
                </a:moveTo>
                <a:lnTo>
                  <a:pt x="16327" y="8529"/>
                </a:lnTo>
                <a:lnTo>
                  <a:pt x="12271" y="8529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3600360" cy="2735280"/>
          </a:xfrm>
          <a:prstGeom prst="rect">
            <a:avLst/>
          </a:prstGeom>
          <a:ln w="15840">
            <a:solidFill>
              <a:srgbClr val="ff99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51280" y="333000"/>
            <a:ext cx="4835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Macromedia 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Flash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 Studio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 — продукт компании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Macromedia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 (ныне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Adobe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), позволяющий разрабатывать интерактивные мультимедийные приложения. Сфера использования Flash различна, это могут быть игры,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web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-сайты, CD презентации, баннеры и просто мультфильмы. При создании продукта можно использовать  медиа, звуковые и графические файлы, можно создавать интерактивные интерфейсы и полноценные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web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-приложения с использованием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PHP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 и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XML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Macromedia Flash использует в качестве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языка                                                   программирования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ActionScript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, по синтаксису схожий с </a:t>
            </a:r>
            <a:r>
              <a:rPr b="1" lang="en-US" sz="1800" spc="-1" strike="noStrike">
                <a:solidFill>
                  <a:srgbClr val="000099"/>
                </a:solidFill>
                <a:latin typeface="Georgia"/>
              </a:rPr>
              <a:t>JavaScript</a:t>
            </a:r>
            <a:r>
              <a:rPr b="1" lang="ru-RU" sz="1800" spc="-1" strike="noStrike">
                <a:solidFill>
                  <a:srgbClr val="000099"/>
                </a:solidFill>
                <a:latin typeface="Georgia"/>
              </a:rPr>
              <a:t>. Файлы-Flash имеют расширение .swf и просматриваются благодаря свободно распространяемого— Flash плее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8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90" h="21600">
                <a:moveTo>
                  <a:pt x="5318" y="3985"/>
                </a:moveTo>
                <a:lnTo>
                  <a:pt x="12316" y="3985"/>
                </a:lnTo>
                <a:lnTo>
                  <a:pt x="16372" y="7484"/>
                </a:lnTo>
                <a:lnTo>
                  <a:pt x="16372" y="17615"/>
                </a:lnTo>
                <a:lnTo>
                  <a:pt x="5318" y="17615"/>
                </a:lnTo>
                <a:close/>
              </a:path>
              <a:path fill="darken" w="21690" h="21600">
                <a:moveTo>
                  <a:pt x="12316" y="3985"/>
                </a:moveTo>
                <a:lnTo>
                  <a:pt x="16372" y="7484"/>
                </a:lnTo>
                <a:lnTo>
                  <a:pt x="12316" y="7484"/>
                </a:lnTo>
                <a:close/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ffff"/>
                </a:solidFill>
                <a:latin typeface="Arial"/>
              </a:rPr>
              <a:t>Анализ </a:t>
            </a: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Arial"/>
              </a:rPr>
              <a:t>Macromedia Fla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58920" y="1484280"/>
            <a:ext cx="532908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маленький размер получающихся файлов и, соответственно, более быстрая загрузка из сети. Flash использует векторный формат изображений и сжимает растровые и звуковые фай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10920" y="3212640"/>
            <a:ext cx="784836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устранение проблем совместимости между браузерами. В отличие от HTML, Flash одинаково работает как в Internet Explorer, так и в любых других браузерах, способных интегрировать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flash-</a:t>
            </a: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плее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В Macromedia Flash используется специальный язык "ActionScript", при помощи которого можно создавать "интеллект" для своей страницы. Это почти полноценный язык программирования, с поддержкой условий, циклов, массивов, функций и классов, которые можно наследов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9900"/>
                </a:solidFill>
                <a:latin typeface="Arial"/>
              </a:rPr>
              <a:t>если обладать элементарными навыками дизайна и рисования, открывается весь простор для Вашей фантазии, предоставляемый Fl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920" y="836280"/>
            <a:ext cx="6121440" cy="5040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cc66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В нашей презентации мы рассмотрели одни из наиболее популярных средств для создания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web-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страниц, а также вспомогательные инструментарии и приложения, доступные как начинающему, так и опытному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</a:rPr>
              <a:t>web-</a:t>
            </a:r>
            <a:r>
              <a:rPr b="0" lang="ru-RU" sz="3200" spc="-1" strike="noStrike">
                <a:solidFill>
                  <a:srgbClr val="4d4d4d"/>
                </a:solidFill>
                <a:latin typeface="Arial"/>
              </a:rPr>
              <a:t>масте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5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22018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927000" y="-179280"/>
            <a:ext cx="7577280" cy="50925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6237360"/>
            <a:ext cx="360360" cy="395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691">
                <a:moveTo>
                  <a:pt x="0" y="0"/>
                </a:moveTo>
                <a:lnTo>
                  <a:pt x="21600" y="0"/>
                </a:lnTo>
                <a:lnTo>
                  <a:pt x="21600" y="23691"/>
                </a:lnTo>
                <a:lnTo>
                  <a:pt x="0" y="23691"/>
                </a:lnTo>
                <a:close/>
              </a:path>
              <a:path fill="lightenLess" w="21600" h="2369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91">
                <a:moveTo>
                  <a:pt x="21600" y="0"/>
                </a:moveTo>
                <a:lnTo>
                  <a:pt x="21600" y="23691"/>
                </a:lnTo>
                <a:lnTo>
                  <a:pt x="20200" y="22291"/>
                </a:lnTo>
                <a:lnTo>
                  <a:pt x="20200" y="1400"/>
                </a:lnTo>
                <a:close/>
              </a:path>
              <a:path fill="darkenLess" w="21600" h="23691">
                <a:moveTo>
                  <a:pt x="21600" y="23691"/>
                </a:moveTo>
                <a:lnTo>
                  <a:pt x="0" y="23691"/>
                </a:lnTo>
                <a:lnTo>
                  <a:pt x="1400" y="22291"/>
                </a:lnTo>
                <a:lnTo>
                  <a:pt x="20200" y="22291"/>
                </a:lnTo>
                <a:close/>
              </a:path>
              <a:path fill="lighten" w="21600" h="23691">
                <a:moveTo>
                  <a:pt x="0" y="2369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91"/>
                </a:lnTo>
                <a:close/>
              </a:path>
              <a:path fill="darkenLess" w="21600" h="23691">
                <a:moveTo>
                  <a:pt x="5273" y="5031"/>
                </a:moveTo>
                <a:lnTo>
                  <a:pt x="12271" y="5031"/>
                </a:lnTo>
                <a:lnTo>
                  <a:pt x="16327" y="8529"/>
                </a:lnTo>
                <a:lnTo>
                  <a:pt x="16327" y="18661"/>
                </a:lnTo>
                <a:lnTo>
                  <a:pt x="5273" y="18661"/>
                </a:lnTo>
                <a:close/>
              </a:path>
              <a:path fill="darken" w="21600" h="23691">
                <a:moveTo>
                  <a:pt x="12271" y="5031"/>
                </a:moveTo>
                <a:lnTo>
                  <a:pt x="16327" y="8529"/>
                </a:lnTo>
                <a:lnTo>
                  <a:pt x="12271" y="8529"/>
                </a:lnTo>
                <a:close/>
              </a:path>
            </a:pathLst>
          </a:cu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3300"/>
                </a:solidFill>
                <a:uFillTx/>
                <a:latin typeface="Arial"/>
              </a:rPr>
              <a:t>Содерж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</a:t>
            </a: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Название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2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одерж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3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ведение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4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Обзор вспомогательных ресур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5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Книги (часть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6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Книги (часть 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7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Интернет журн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8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Методические пособия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on-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9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Введение в обзор программного обеспе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0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Dream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wea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1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Ace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2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2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Блокно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3.</a:t>
            </a:r>
            <a:r>
              <a:rPr b="0" lang="en-US" sz="16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Visual 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4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Cache 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5.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Macromedia Flash Stud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3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6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Анализ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Macromedia Flash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7.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Заключ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Arial"/>
              </a:rPr>
              <a:t>Слайд 18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The e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Для того чтобы </a:t>
            </a: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web-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мастер чувствовал себя максимально     комфортно    при    разработке нового проекта, ему необходим определенный набор программного обеспечения, базовый инструментарий, без которого создателю </a:t>
            </a: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web-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сайта просто не обойтись. Начинающему </a:t>
            </a:r>
            <a:r>
              <a:rPr b="0" lang="en-US" sz="2400" spc="-1" strike="noStrike">
                <a:solidFill>
                  <a:srgbClr val="000066"/>
                </a:solidFill>
                <a:latin typeface="Bookman Old Style"/>
              </a:rPr>
              <a:t>web-</a:t>
            </a:r>
            <a:r>
              <a:rPr b="0" lang="ru-RU" sz="2400" spc="-1" strike="noStrike">
                <a:solidFill>
                  <a:srgbClr val="000066"/>
                </a:solidFill>
                <a:latin typeface="Bookman Old Style"/>
              </a:rPr>
              <a:t>мастеру порой бывает трудно сориентироваться не только во всем многообразии наименований существующий программ, но даже в списке минимально необходимых для работы приложений. Можно что-либо забыть, упустить или даже просто не знать о том, что впоследствии вам понадобится какая программа</a:t>
            </a:r>
            <a:r>
              <a:rPr b="0" lang="ru-RU" sz="1800" spc="-1" strike="noStrike">
                <a:solidFill>
                  <a:srgbClr val="000066"/>
                </a:solidFill>
                <a:latin typeface="Bookman Old Styl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2" action="ppaction://hlinksldjump"/>
          </p:cNvPr>
          <p:cNvSpPr/>
          <p:nvPr/>
        </p:nvSpPr>
        <p:spPr>
          <a:xfrm>
            <a:off x="179280" y="6308640"/>
            <a:ext cx="289080" cy="36036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360360"/>
              <a:gd name="textAreaBottom" fmla="*/ 341640 h 360360"/>
            </a:gdLst>
            <a:ahLst/>
            <a:rect l="textAreaLeft" t="textAreaTop" r="textAreaRight" b="textAreaBottom"/>
            <a:pathLst>
              <a:path w="21600" h="26919">
                <a:moveTo>
                  <a:pt x="0" y="0"/>
                </a:moveTo>
                <a:lnTo>
                  <a:pt x="21600" y="0"/>
                </a:lnTo>
                <a:lnTo>
                  <a:pt x="21600" y="26919"/>
                </a:lnTo>
                <a:lnTo>
                  <a:pt x="0" y="26919"/>
                </a:lnTo>
                <a:close/>
              </a:path>
              <a:path fill="lightenLess" w="21600" h="26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19">
                <a:moveTo>
                  <a:pt x="21600" y="0"/>
                </a:moveTo>
                <a:lnTo>
                  <a:pt x="21600" y="26919"/>
                </a:lnTo>
                <a:lnTo>
                  <a:pt x="20200" y="25519"/>
                </a:lnTo>
                <a:lnTo>
                  <a:pt x="20200" y="1400"/>
                </a:lnTo>
                <a:close/>
              </a:path>
              <a:path fill="darkenLess" w="21600" h="26919">
                <a:moveTo>
                  <a:pt x="21600" y="26919"/>
                </a:moveTo>
                <a:lnTo>
                  <a:pt x="0" y="26919"/>
                </a:lnTo>
                <a:lnTo>
                  <a:pt x="1400" y="25519"/>
                </a:lnTo>
                <a:lnTo>
                  <a:pt x="20200" y="25519"/>
                </a:lnTo>
                <a:close/>
              </a:path>
              <a:path fill="lighten" w="21600" h="26919">
                <a:moveTo>
                  <a:pt x="0" y="26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19"/>
                </a:lnTo>
                <a:close/>
              </a:path>
              <a:path fill="darkenLess" w="21600" h="26919">
                <a:moveTo>
                  <a:pt x="5273" y="6645"/>
                </a:moveTo>
                <a:lnTo>
                  <a:pt x="12271" y="6645"/>
                </a:lnTo>
                <a:lnTo>
                  <a:pt x="16327" y="10144"/>
                </a:lnTo>
                <a:lnTo>
                  <a:pt x="16327" y="20275"/>
                </a:lnTo>
                <a:lnTo>
                  <a:pt x="5273" y="20275"/>
                </a:lnTo>
                <a:close/>
              </a:path>
              <a:path fill="darken" w="21600" h="26919">
                <a:moveTo>
                  <a:pt x="12271" y="6645"/>
                </a:moveTo>
                <a:lnTo>
                  <a:pt x="16327" y="10144"/>
                </a:lnTo>
                <a:lnTo>
                  <a:pt x="12271" y="101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05636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В помощь начинающему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web-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мастеру разработаны различные методические пособия </a:t>
            </a: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on-line</a:t>
            </a:r>
            <a:r>
              <a:rPr b="0" lang="ru-RU" sz="3600" spc="-1" strike="noStrike">
                <a:solidFill>
                  <a:srgbClr val="333333"/>
                </a:solidFill>
                <a:latin typeface="Arial"/>
              </a:rPr>
              <a:t>, издаются статьи в интернет-журналах и литературных издания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179280" y="6237360"/>
            <a:ext cx="179640" cy="179280"/>
          </a:xfrm>
          <a:custGeom>
            <a:avLst/>
            <a:gdLst>
              <a:gd name="textAreaLeft" fmla="*/ 11520 w 179640"/>
              <a:gd name="textAreaRight" fmla="*/ 168120 w 179640"/>
              <a:gd name="textAreaTop" fmla="*/ 11520 h 179280"/>
              <a:gd name="textAreaBottom" fmla="*/ 167760 h 179280"/>
            </a:gdLst>
            <a:ahLst/>
            <a:rect l="textAreaLeft" t="textAreaTop" r="textAreaRight" b="textAreaBottom"/>
            <a:pathLst>
              <a:path w="21643" h="21600">
                <a:moveTo>
                  <a:pt x="0" y="0"/>
                </a:moveTo>
                <a:lnTo>
                  <a:pt x="21643" y="0"/>
                </a:lnTo>
                <a:lnTo>
                  <a:pt x="21643" y="21600"/>
                </a:lnTo>
                <a:lnTo>
                  <a:pt x="0" y="21600"/>
                </a:lnTo>
                <a:close/>
              </a:path>
              <a:path fill="lightenLess" w="21643" h="21600">
                <a:moveTo>
                  <a:pt x="0" y="0"/>
                </a:moveTo>
                <a:lnTo>
                  <a:pt x="21643" y="0"/>
                </a:lnTo>
                <a:lnTo>
                  <a:pt x="20243" y="1400"/>
                </a:lnTo>
                <a:lnTo>
                  <a:pt x="1400" y="1400"/>
                </a:lnTo>
                <a:close/>
              </a:path>
              <a:path fill="darken" w="21643" h="21600">
                <a:moveTo>
                  <a:pt x="21643" y="0"/>
                </a:moveTo>
                <a:lnTo>
                  <a:pt x="21643" y="21600"/>
                </a:lnTo>
                <a:lnTo>
                  <a:pt x="20243" y="20200"/>
                </a:lnTo>
                <a:lnTo>
                  <a:pt x="20243" y="1400"/>
                </a:lnTo>
                <a:close/>
              </a:path>
              <a:path fill="darkenLess" w="21643" h="21600">
                <a:moveTo>
                  <a:pt x="216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43" y="20200"/>
                </a:lnTo>
                <a:close/>
              </a:path>
              <a:path fill="lighten" w="216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43" h="21600">
                <a:moveTo>
                  <a:pt x="5295" y="3985"/>
                </a:moveTo>
                <a:lnTo>
                  <a:pt x="12293" y="3985"/>
                </a:lnTo>
                <a:lnTo>
                  <a:pt x="16348" y="7484"/>
                </a:lnTo>
                <a:lnTo>
                  <a:pt x="16348" y="17615"/>
                </a:lnTo>
                <a:lnTo>
                  <a:pt x="5295" y="17615"/>
                </a:lnTo>
                <a:close/>
              </a:path>
              <a:path fill="darken" w="21643" h="21600">
                <a:moveTo>
                  <a:pt x="12293" y="3985"/>
                </a:moveTo>
                <a:lnTo>
                  <a:pt x="16348" y="7484"/>
                </a:lnTo>
                <a:lnTo>
                  <a:pt x="12293" y="7484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00000" y="1197000"/>
            <a:ext cx="597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Macromedia Flash MX 2004. Экспресс-курс.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В.Др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ниге описываются возможности пакета интернет-графики Macromedia Flash MX. На примере создания Web-сайта музыкального интернет-магазина рассматриваются современные средства Web-дизайна: векторная и растровая графика, анимация, интерактивные элементы, написание сценариев на Языке ActionScript, использование звука и цвета. Навыки и знания, полученные из этой книги, помогут Вам при разработке собственного Web-сайта осуществить самые смелые творческие замысл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HTML и XML. Web-дизайн и программирование для сред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ternet.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Сергеев А.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этой книге вы найдете все сведения, необходимые в процессе разработки Web-сайтов: описание и примеры применения дескрипторов HTML 4.0, подробное обсуждение методов поэтапной разработки Web-страниц, включающих графику, звук, каскадные таблицы стилей, а также сценарии, написанные на языках Perl, Java, JavaScript и VBScript. Особое внимание уделяется подробному описанию XML, а также рассмотрению основных направлений использования этого универсального языка разметки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1173240" cy="1684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3"/>
          <a:stretch/>
        </p:blipFill>
        <p:spPr>
          <a:xfrm>
            <a:off x="826920" y="3789360"/>
            <a:ext cx="1546560" cy="2187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3348000" y="6245280"/>
            <a:ext cx="2808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179280" y="6237360"/>
            <a:ext cx="289080" cy="431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1640"/>
              <a:gd name="textAreaBottom" fmla="*/ 412920 h 431640"/>
            </a:gdLst>
            <a:ahLst/>
            <a:rect l="textAreaLeft" t="textAreaTop" r="textAreaRight" b="textAreaBottom"/>
            <a:pathLst>
              <a:path w="21600" h="32239">
                <a:moveTo>
                  <a:pt x="0" y="0"/>
                </a:moveTo>
                <a:lnTo>
                  <a:pt x="21600" y="0"/>
                </a:lnTo>
                <a:lnTo>
                  <a:pt x="21600" y="32239"/>
                </a:lnTo>
                <a:lnTo>
                  <a:pt x="0" y="32239"/>
                </a:lnTo>
                <a:close/>
              </a:path>
              <a:path fill="lightenLess" w="21600" h="322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39">
                <a:moveTo>
                  <a:pt x="21600" y="0"/>
                </a:moveTo>
                <a:lnTo>
                  <a:pt x="21600" y="32239"/>
                </a:lnTo>
                <a:lnTo>
                  <a:pt x="20200" y="30839"/>
                </a:lnTo>
                <a:lnTo>
                  <a:pt x="20200" y="1400"/>
                </a:lnTo>
                <a:close/>
              </a:path>
              <a:path fill="darkenLess" w="21600" h="32239">
                <a:moveTo>
                  <a:pt x="21600" y="32239"/>
                </a:moveTo>
                <a:lnTo>
                  <a:pt x="0" y="32239"/>
                </a:lnTo>
                <a:lnTo>
                  <a:pt x="1400" y="30839"/>
                </a:lnTo>
                <a:lnTo>
                  <a:pt x="20200" y="30839"/>
                </a:lnTo>
                <a:close/>
              </a:path>
              <a:path fill="lighten" w="21600" h="32239">
                <a:moveTo>
                  <a:pt x="0" y="32239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39"/>
                </a:lnTo>
                <a:close/>
              </a:path>
              <a:path fill="darkenLess" w="21600" h="32239">
                <a:moveTo>
                  <a:pt x="5273" y="9304"/>
                </a:moveTo>
                <a:lnTo>
                  <a:pt x="12271" y="9304"/>
                </a:lnTo>
                <a:lnTo>
                  <a:pt x="16327" y="12803"/>
                </a:lnTo>
                <a:lnTo>
                  <a:pt x="16327" y="22934"/>
                </a:lnTo>
                <a:lnTo>
                  <a:pt x="5273" y="22934"/>
                </a:lnTo>
                <a:close/>
              </a:path>
              <a:path fill="darken" w="21600" h="32239">
                <a:moveTo>
                  <a:pt x="12271" y="9304"/>
                </a:moveTo>
                <a:lnTo>
                  <a:pt x="16327" y="12803"/>
                </a:lnTo>
                <a:lnTo>
                  <a:pt x="12271" y="1280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Arial"/>
              </a:rPr>
              <a:t>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00000" y="1052280"/>
            <a:ext cx="5832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Как программировать на Java. Книга Основы программирования.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Х.М.Дейтел, П.Дж.Дейтел</a:t>
            </a:r>
            <a:r>
              <a:rPr b="1" lang="ru-RU" sz="16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а является простым и доступным введением в технологии программирования Java2. Несмотря на свою молодость он является одним из самых популярных языков, на котором легко создавать сложные приложения. При этом книга уникальна по широте охвата и полноте изложения матери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media Dreamweaver MX для Windows и Macintos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660066"/>
                </a:solidFill>
                <a:latin typeface="Arial"/>
              </a:rPr>
              <a:t>Дж.Тарин Тауэр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анной книге во всех подробностях рассмотрена последняя версия программы: приводятся пошаговые инструкции выполнения различных операций по созданию и редактированию Web-страницы, а также ее отдельных элементов.Читатели научатся оформлять свои Internet-проекты таким образом, чтобы их могли оценить по достоинству пользователи разных браузер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здание адресовано начинающим Web-разработчикам, а также опытным Web-дизайнерам, желающим пополнить свои зн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2"/>
          <a:stretch/>
        </p:blipFill>
        <p:spPr>
          <a:xfrm>
            <a:off x="893880" y="981000"/>
            <a:ext cx="1493640" cy="21607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"/>
          <p:cNvSpPr/>
          <p:nvPr/>
        </p:nvSpPr>
        <p:spPr>
          <a:xfrm>
            <a:off x="1403280" y="5877000"/>
            <a:ext cx="65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66"/>
                </a:solidFill>
                <a:latin typeface="Arial"/>
                <a:ea typeface="Arial"/>
              </a:rPr>
              <a:t>Так же можно найти популярные и подробные книжные издания по любой интересующей вас програм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"/>
          <p:cNvPicPr/>
          <p:nvPr/>
        </p:nvPicPr>
        <p:blipFill>
          <a:blip r:embed="rId3"/>
          <a:stretch/>
        </p:blipFill>
        <p:spPr>
          <a:xfrm>
            <a:off x="900000" y="3213000"/>
            <a:ext cx="153036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3124080" y="6381720"/>
            <a:ext cx="2895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4" action="ppaction://hlinksldjump"/>
          </p:cNvPr>
          <p:cNvSpPr/>
          <p:nvPr/>
        </p:nvSpPr>
        <p:spPr>
          <a:xfrm>
            <a:off x="179280" y="616572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Less" w="21600" h="32266">
                <a:moveTo>
                  <a:pt x="5273" y="9318"/>
                </a:moveTo>
                <a:lnTo>
                  <a:pt x="12271" y="9318"/>
                </a:lnTo>
                <a:lnTo>
                  <a:pt x="16327" y="12817"/>
                </a:lnTo>
                <a:lnTo>
                  <a:pt x="16327" y="22948"/>
                </a:lnTo>
                <a:lnTo>
                  <a:pt x="5273" y="22948"/>
                </a:lnTo>
                <a:close/>
              </a:path>
              <a:path fill="darken" w="21600" h="32266">
                <a:moveTo>
                  <a:pt x="12271" y="9318"/>
                </a:moveTo>
                <a:lnTo>
                  <a:pt x="16327" y="12817"/>
                </a:lnTo>
                <a:lnTo>
                  <a:pt x="12271" y="12817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Интернет-журн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181152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3">
            <a:lum contrast="42000"/>
          </a:blip>
          <a:srcRect l="0" t="0" r="47767" b="41003"/>
          <a:stretch/>
        </p:blipFill>
        <p:spPr>
          <a:xfrm>
            <a:off x="468360" y="4221000"/>
            <a:ext cx="1811160" cy="17956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26920" y="1628640"/>
            <a:ext cx="62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Bytemagazine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журнал для ИТ-профессионалов, с достаточно понятным языком стате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зор последних новостей и разработок в области компьютерны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4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5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6"/>
              </a:rPr>
              <a:t>www.bytemag.ru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7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Internet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йт обозреватель программного обеспечения, содержащий статьи о новинках, новости П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возможность скачать полные 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ерсии програм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8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9"/>
              </a:rPr>
              <a:t>://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10"/>
              </a:rPr>
              <a:t>www.izcity.com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Georgia"/>
                <a:hlinkClick r:id="rId11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2" action="ppaction://hlinksldjump"/>
          </p:cNvPr>
          <p:cNvSpPr/>
          <p:nvPr/>
        </p:nvSpPr>
        <p:spPr>
          <a:xfrm>
            <a:off x="179280" y="62373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00" h="21600">
                <a:moveTo>
                  <a:pt x="5273" y="3985"/>
                </a:moveTo>
                <a:lnTo>
                  <a:pt x="12271" y="3985"/>
                </a:lnTo>
                <a:lnTo>
                  <a:pt x="16327" y="7484"/>
                </a:lnTo>
                <a:lnTo>
                  <a:pt x="16327" y="17615"/>
                </a:lnTo>
                <a:lnTo>
                  <a:pt x="5273" y="17615"/>
                </a:lnTo>
                <a:close/>
              </a:path>
              <a:path fill="darken" w="21600" h="21600">
                <a:moveTo>
                  <a:pt x="12271" y="3985"/>
                </a:moveTo>
                <a:lnTo>
                  <a:pt x="16327" y="7484"/>
                </a:lnTo>
                <a:lnTo>
                  <a:pt x="12271" y="7484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етодические пособия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on-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>
            <a:hlinkClick r:id="rId2"/>
          </p:cNvPr>
          <p:cNvPicPr/>
          <p:nvPr/>
        </p:nvPicPr>
        <p:blipFill>
          <a:blip r:embed="rId3"/>
          <a:srcRect l="1382" t="20695" r="24844" b="21399"/>
          <a:stretch/>
        </p:blipFill>
        <p:spPr>
          <a:xfrm>
            <a:off x="539640" y="1700280"/>
            <a:ext cx="3888000" cy="4222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4360" y="1412640"/>
            <a:ext cx="4103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Мы приводим пример, одного из наиболее популярных пособий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n-line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, которое рассчитано на начинающих Web-разработчиков. Содержит практические примеры с по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снениями,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иллюстрации, со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веты.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Великолепная во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зможность по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лучить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ыстрое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и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эффективное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самообу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Та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кже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айте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можно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айти и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др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угие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тать</a:t>
            </a: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и и книги, содержащие информацию о создании сай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250920" y="623736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88" h="21600">
                <a:moveTo>
                  <a:pt x="8017" y="3985"/>
                </a:moveTo>
                <a:lnTo>
                  <a:pt x="15015" y="3985"/>
                </a:lnTo>
                <a:lnTo>
                  <a:pt x="19071" y="7484"/>
                </a:lnTo>
                <a:lnTo>
                  <a:pt x="19071" y="17615"/>
                </a:lnTo>
                <a:lnTo>
                  <a:pt x="8017" y="17615"/>
                </a:lnTo>
                <a:close/>
              </a:path>
              <a:path fill="darken" w="27088" h="21600">
                <a:moveTo>
                  <a:pt x="15015" y="3985"/>
                </a:moveTo>
                <a:lnTo>
                  <a:pt x="19071" y="7484"/>
                </a:lnTo>
                <a:lnTo>
                  <a:pt x="15015" y="748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6994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 вышеперечисле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спомогате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редствах и пособия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екомендован 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ограмм дл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оздания сайтов. Выбо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которых обуславлив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азовым уровнем и предпочте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мас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71640" y="5516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Arial"/>
                <a:ea typeface="Arial"/>
              </a:rPr>
              <a:t>Мы представляем обзор некоторых из них</a:t>
            </a:r>
            <a:r>
              <a:rPr b="0" lang="ru-RU" sz="2400" spc="-1" strike="noStrike">
                <a:solidFill>
                  <a:srgbClr val="cc3399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Авторы: Болсинова А.С., Зетилова Н.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623736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Less" w="21600" h="25868">
                <a:moveTo>
                  <a:pt x="5273" y="6119"/>
                </a:moveTo>
                <a:lnTo>
                  <a:pt x="12271" y="6119"/>
                </a:lnTo>
                <a:lnTo>
                  <a:pt x="16327" y="9618"/>
                </a:lnTo>
                <a:lnTo>
                  <a:pt x="16327" y="19749"/>
                </a:lnTo>
                <a:lnTo>
                  <a:pt x="5273" y="19749"/>
                </a:lnTo>
                <a:close/>
              </a:path>
              <a:path fill="darken" w="21600" h="25868">
                <a:moveTo>
                  <a:pt x="12271" y="6119"/>
                </a:moveTo>
                <a:lnTo>
                  <a:pt x="16327" y="9618"/>
                </a:lnTo>
                <a:lnTo>
                  <a:pt x="12271" y="9618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9:21:16Z</dcterms:created>
  <dc:creator>мы</dc:creator>
  <dc:description/>
  <dc:language>en-US</dc:language>
  <cp:lastModifiedBy>Гость</cp:lastModifiedBy>
  <dcterms:modified xsi:type="dcterms:W3CDTF">2004-08-28T06:07:37Z</dcterms:modified>
  <cp:revision>15</cp:revision>
  <dc:subject/>
  <dc:title>Анализ программного обеспечения для разработчиков web-страниц и web-сайтов.</dc:title>
</cp:coreProperties>
</file>